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DB010-D0A4-440A-BA57-883C0E5249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8A95-F541-4E7E-BDE7-7D9E73B12B7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E57D7-4711-477A-A585-4D197AFA6E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60F38-294C-4413-9565-52C277B6CB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7ABBA-EA4D-4942-B90F-7B8EF11AAA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8523C-3F50-436F-BA46-D271CBAC9A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2609A-F027-4A0F-847A-F215066714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7946A-847B-4E3E-8300-C2F084A1A9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D7317-C846-4908-A691-E073199C75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D991B-DAB8-431B-A518-08801E07BB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6B6B2-DAF3-4114-A14D-36A7B3E2F6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1815-6A9C-4AA3-93B5-EDB707641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E9AB-0914-4FB1-B450-0FD03D72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1106-89FA-405E-9AE0-05E2F4D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5834-49F2-4BEF-8DD6-A5184B6497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C48A-2C3E-49F8-981F-008784FB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D8CA-AD31-479B-BBEB-0ED61A82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B468-4A39-4318-BD9C-D48B65DA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0A6F-CA29-4D42-9E3A-1BD6C83E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E20B-3808-4CC7-8BD7-735018B1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9FBB-4AD6-4E2E-956A-3370FBA9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295F-FDD1-4BFB-9216-6328A5B1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B5284-0C07-43AD-9A9D-1F3BCD93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6721D0-8485-40EC-9BF7-930B8465988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984240" y="9036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20 Grupo"/>
          <p:cNvGrpSpPr/>
          <p:nvPr/>
        </p:nvGrpSpPr>
        <p:grpSpPr>
          <a:xfrm>
            <a:off x="1979640" y="1125360"/>
            <a:ext cx="5400720" cy="1225800"/>
            <a:chOff x="1979640" y="1125360"/>
            <a:chExt cx="5400720" cy="1225800"/>
          </a:xfrm>
        </p:grpSpPr>
        <p:sp>
          <p:nvSpPr>
            <p:cNvPr id="70" name="AutoShape 6"/>
            <p:cNvSpPr/>
            <p:nvPr/>
          </p:nvSpPr>
          <p:spPr>
            <a:xfrm>
              <a:off x="1979640" y="1125360"/>
              <a:ext cx="5400720" cy="1225800"/>
            </a:xfrm>
            <a:prstGeom prst="roundRect">
              <a:avLst>
                <a:gd name="adj" fmla="val 16667"/>
              </a:avLst>
            </a:prstGeom>
            <a:solidFill>
              <a:srgbClr val="94bd5e"/>
            </a:solidFill>
            <a:ln w="38160">
              <a:solidFill>
                <a:srgbClr val="355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2148120" y="1341000"/>
              <a:ext cx="489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 JARDINERÍA SE APROVECHA LA REPRODUCCIÓN ASEXUAL DE LAS PLANTAS PARA PROPAGARL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21 Grupo"/>
          <p:cNvGrpSpPr/>
          <p:nvPr/>
        </p:nvGrpSpPr>
        <p:grpSpPr>
          <a:xfrm>
            <a:off x="1403280" y="4076640"/>
            <a:ext cx="1873440" cy="1081080"/>
            <a:chOff x="1403280" y="4076640"/>
            <a:chExt cx="1873440" cy="1081080"/>
          </a:xfrm>
        </p:grpSpPr>
        <p:sp>
          <p:nvSpPr>
            <p:cNvPr id="73" name="AutoShape 12"/>
            <p:cNvSpPr/>
            <p:nvPr/>
          </p:nvSpPr>
          <p:spPr>
            <a:xfrm>
              <a:off x="1476000" y="4076640"/>
              <a:ext cx="1752480" cy="1081080"/>
            </a:xfrm>
            <a:prstGeom prst="roundRect">
              <a:avLst>
                <a:gd name="adj" fmla="val 16667"/>
              </a:avLst>
            </a:prstGeom>
            <a:solidFill>
              <a:srgbClr val="94bd5e"/>
            </a:solidFill>
            <a:ln w="38160">
              <a:solidFill>
                <a:srgbClr val="355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403280" y="4282200"/>
              <a:ext cx="187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PROPAGACIÓN POR ESQUEJ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22 Grupo"/>
          <p:cNvGrpSpPr/>
          <p:nvPr/>
        </p:nvGrpSpPr>
        <p:grpSpPr>
          <a:xfrm>
            <a:off x="3635280" y="4076640"/>
            <a:ext cx="1951200" cy="1081080"/>
            <a:chOff x="3635280" y="4076640"/>
            <a:chExt cx="1951200" cy="1081080"/>
          </a:xfrm>
        </p:grpSpPr>
        <p:sp>
          <p:nvSpPr>
            <p:cNvPr id="76" name="AutoShape 14"/>
            <p:cNvSpPr/>
            <p:nvPr/>
          </p:nvSpPr>
          <p:spPr>
            <a:xfrm>
              <a:off x="3697920" y="4076640"/>
              <a:ext cx="1741680" cy="1081080"/>
            </a:xfrm>
            <a:prstGeom prst="roundRect">
              <a:avLst>
                <a:gd name="adj" fmla="val 16667"/>
              </a:avLst>
            </a:prstGeom>
            <a:solidFill>
              <a:srgbClr val="94bd5e"/>
            </a:solidFill>
            <a:ln w="38160">
              <a:solidFill>
                <a:srgbClr val="355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635280" y="4293000"/>
              <a:ext cx="195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PROPAGACIÓN POR INJER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Freeform 8"/>
          <p:cNvSpPr/>
          <p:nvPr/>
        </p:nvSpPr>
        <p:spPr>
          <a:xfrm>
            <a:off x="2268360" y="3789360"/>
            <a:ext cx="1800" cy="314280"/>
          </a:xfrm>
          <a:custGeom>
            <a:avLst/>
            <a:gdLst>
              <a:gd name="textAreaLeft" fmla="*/ 0 w 1800"/>
              <a:gd name="textAreaRight" fmla="*/ 2160 w 18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6" h="874">
                <a:moveTo>
                  <a:pt x="0" y="873"/>
                </a:moveTo>
                <a:lnTo>
                  <a:pt x="5" y="0"/>
                </a:lnTo>
              </a:path>
            </a:pathLst>
          </a:custGeom>
          <a:noFill/>
          <a:ln w="2556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Freeform 9"/>
          <p:cNvSpPr/>
          <p:nvPr/>
        </p:nvSpPr>
        <p:spPr>
          <a:xfrm>
            <a:off x="4572000" y="3789360"/>
            <a:ext cx="1440" cy="314280"/>
          </a:xfrm>
          <a:custGeom>
            <a:avLst/>
            <a:gdLst>
              <a:gd name="textAreaLeft" fmla="*/ 0 w 1440"/>
              <a:gd name="textAreaRight" fmla="*/ 1800 w 1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6" h="874">
                <a:moveTo>
                  <a:pt x="0" y="873"/>
                </a:moveTo>
                <a:lnTo>
                  <a:pt x="5" y="0"/>
                </a:lnTo>
              </a:path>
            </a:pathLst>
          </a:custGeom>
          <a:noFill/>
          <a:ln w="2556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4572000" y="2349360"/>
            <a:ext cx="1440" cy="393840"/>
          </a:xfrm>
          <a:custGeom>
            <a:avLst/>
            <a:gdLst>
              <a:gd name="textAreaLeft" fmla="*/ 0 w 1440"/>
              <a:gd name="textAreaRight" fmla="*/ 1800 w 14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" h="1095">
                <a:moveTo>
                  <a:pt x="0" y="0"/>
                </a:moveTo>
                <a:lnTo>
                  <a:pt x="4" y="1094"/>
                </a:lnTo>
              </a:path>
            </a:pathLst>
          </a:custGeom>
          <a:noFill/>
          <a:ln w="2556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23 Grupo"/>
          <p:cNvGrpSpPr/>
          <p:nvPr/>
        </p:nvGrpSpPr>
        <p:grpSpPr>
          <a:xfrm>
            <a:off x="5867280" y="4076640"/>
            <a:ext cx="1773360" cy="1081080"/>
            <a:chOff x="5867280" y="4076640"/>
            <a:chExt cx="1773360" cy="1081080"/>
          </a:xfrm>
        </p:grpSpPr>
        <p:sp>
          <p:nvSpPr>
            <p:cNvPr id="82" name="AutoShape 17"/>
            <p:cNvSpPr/>
            <p:nvPr/>
          </p:nvSpPr>
          <p:spPr>
            <a:xfrm>
              <a:off x="5892480" y="4076640"/>
              <a:ext cx="1748160" cy="1081080"/>
            </a:xfrm>
            <a:prstGeom prst="roundRect">
              <a:avLst>
                <a:gd name="adj" fmla="val 16667"/>
              </a:avLst>
            </a:prstGeom>
            <a:solidFill>
              <a:srgbClr val="94bd5e"/>
            </a:solidFill>
            <a:ln w="38160">
              <a:solidFill>
                <a:srgbClr val="355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5867280" y="4293000"/>
              <a:ext cx="177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PROPAGACIÓN POR ACO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Text Box 19"/>
          <p:cNvSpPr/>
          <p:nvPr/>
        </p:nvSpPr>
        <p:spPr>
          <a:xfrm>
            <a:off x="1476360" y="5589720"/>
            <a:ext cx="55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35 Conector recto"/>
          <p:cNvSpPr/>
          <p:nvPr/>
        </p:nvSpPr>
        <p:spPr>
          <a:xfrm>
            <a:off x="2268360" y="3789360"/>
            <a:ext cx="446436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36 CuadroTexto"/>
          <p:cNvSpPr/>
          <p:nvPr/>
        </p:nvSpPr>
        <p:spPr>
          <a:xfrm>
            <a:off x="2916360" y="2781360"/>
            <a:ext cx="33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o se lleva a cabo por varios métodos: destacan t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41 Conector recto"/>
          <p:cNvSpPr/>
          <p:nvPr/>
        </p:nvSpPr>
        <p:spPr>
          <a:xfrm>
            <a:off x="4572000" y="3500280"/>
            <a:ext cx="0" cy="57636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45 Conector recto"/>
          <p:cNvSpPr/>
          <p:nvPr/>
        </p:nvSpPr>
        <p:spPr>
          <a:xfrm>
            <a:off x="6732720" y="3789360"/>
            <a:ext cx="0" cy="28728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203640" y="2590920"/>
            <a:ext cx="2555640" cy="3240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984240" y="90360"/>
            <a:ext cx="77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34920" y="1347840"/>
            <a:ext cx="81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 cortar, de la planta progenitora, un trozo del tallo con yemas (un esqueje). Este se entierra o se mete en agua hasta que echa raíces, y así obtenemos una nueva pla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900000" y="9079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opagación por esque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258920" y="2995560"/>
            <a:ext cx="1395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Se corta una pequeña rama con yemas, de la planta progenitora (esquej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2414520" y="4197240"/>
            <a:ext cx="1738440" cy="1536840"/>
          </a:xfrm>
          <a:custGeom>
            <a:avLst/>
            <a:gdLst>
              <a:gd name="textAreaLeft" fmla="*/ 0 w 1738440"/>
              <a:gd name="textAreaRight" fmla="*/ 1738800 w 1738440"/>
              <a:gd name="textAreaTop" fmla="*/ 0 h 1536840"/>
              <a:gd name="textAreaBottom" fmla="*/ 1537200 h 1536840"/>
            </a:gdLst>
            <a:ahLst/>
            <a:rect l="textAreaLeft" t="textAreaTop" r="textAreaRight" b="textAreaBottom"/>
            <a:pathLst>
              <a:path w="4830" h="4270">
                <a:moveTo>
                  <a:pt x="0" y="0"/>
                </a:moveTo>
                <a:lnTo>
                  <a:pt x="4829" y="426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299280" y="2565360"/>
            <a:ext cx="162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El esqueje se entierra y enraíza, formando así una nueva pla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2"/>
          <p:cNvSpPr/>
          <p:nvPr/>
        </p:nvSpPr>
        <p:spPr>
          <a:xfrm>
            <a:off x="5043600" y="3411360"/>
            <a:ext cx="1271520" cy="39384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533" h="1095">
                <a:moveTo>
                  <a:pt x="3532" y="0"/>
                </a:moveTo>
                <a:lnTo>
                  <a:pt x="0" y="10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060720" y="2519280"/>
            <a:ext cx="2519280" cy="361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34920" y="1347840"/>
            <a:ext cx="770580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injertos son fragmentos de tallos que se unen al tallo de otra planta de una especie parec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 usarse mucho en árboles fru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opagación por inj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755640" y="299736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En el tallo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nta receptora hacemos un cort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onde podamos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roducir el tallo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nta dona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2414520" y="4197240"/>
            <a:ext cx="1006560" cy="30168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797" h="839">
                <a:moveTo>
                  <a:pt x="0" y="0"/>
                </a:moveTo>
                <a:lnTo>
                  <a:pt x="2796" y="8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299280" y="2854440"/>
            <a:ext cx="180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El corte cicatriza y la nueva rama forma ya parte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nta recepto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2"/>
          <p:cNvSpPr/>
          <p:nvPr/>
        </p:nvSpPr>
        <p:spPr>
          <a:xfrm>
            <a:off x="5043600" y="3411360"/>
            <a:ext cx="1271520" cy="39384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533" h="1095">
                <a:moveTo>
                  <a:pt x="3532" y="0"/>
                </a:moveTo>
                <a:lnTo>
                  <a:pt x="0" y="10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4824360" cy="21607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34920" y="1347840"/>
            <a:ext cx="820908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esta técnica se forman nuevas plantas a partir de una ram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planta progenitora. Consiste en doblar una rama de esta planta hasta que queda parcialmente enterrada en el sue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vez que la rama enterrada enraíza, se separa de la planta progenitora y forma una nueva pla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opagación por ac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95280" y="3716280"/>
            <a:ext cx="1655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Se dobl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a rama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nta progenitor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sta qu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enterramos parcialme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1692360" y="4508640"/>
            <a:ext cx="2965320" cy="80640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7242" h="4041">
                <a:moveTo>
                  <a:pt x="0" y="0"/>
                </a:moveTo>
                <a:lnTo>
                  <a:pt x="7241" y="40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199280" y="4387680"/>
            <a:ext cx="162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Una vez enraíza, se separa la nueva planta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rogenito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2"/>
          <p:cNvSpPr/>
          <p:nvPr/>
        </p:nvSpPr>
        <p:spPr>
          <a:xfrm>
            <a:off x="5867280" y="4869000"/>
            <a:ext cx="1436760" cy="23796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3992" h="662">
                <a:moveTo>
                  <a:pt x="3991" y="0"/>
                </a:moveTo>
                <a:lnTo>
                  <a:pt x="0" y="6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05:28Z</dcterms:modified>
  <cp:revision>54</cp:revision>
  <dc:subject/>
  <dc:title>Diapositiva 1</dc:title>
</cp:coreProperties>
</file>